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9F5-8AA3-4305-940B-3F402042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68A-C956-47E2-8EDA-2AC31784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A63-CF0B-4220-B040-AADC0788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C6B-EF94-4F74-8972-B114B098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E46-321B-427A-BCB7-88E80DDE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36FB-769C-4C92-8AB0-3C02D0DA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157-B67B-41DE-B84F-D47D63D7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AFF-FD20-402F-9488-C89AC014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7CF-53D5-4999-9DB1-362DC2B8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46C-A1C9-4A74-84B0-A3F9680A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3A38-6D24-47EB-925A-B99F72E5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058-256B-47D8-9B6A-77E841D4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FF3A-04AB-4666-B01D-E2D526DFFB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49360"/>
            <a:ext cx="9144000" cy="22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ffffff"/>
                </a:solidFill>
                <a:latin typeface="Arial"/>
                <a:cs typeface="????Boutros Rokaa"/>
              </a:rPr>
              <a:t>أنتم ملح الأرض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9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نتُم ملحُ الأرض، فإذا فَسَدَ الملحُ فأيُّ شيءٍ يُمَلِّحُهُ، إنه لا يصلُحُ إلاّ لأن يُطرَحَ في خارجِ الدارِ فيدوسه النا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أنتُم نورُ العالَم، لا تَخفَى مدينةٌ على جبل، ولا يوقدُ سراجٌ فيوضعَ تحتَ المِكيال، بَلْ على المنارةِ ليُضيءَ لجميع الذينَ هُم في البي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941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ليُضئ نورُكُم هكذا للناس لِيَروا أعمالَكُم الصالِحَة فيمجِّدوا أباكُم الذي في السماوا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21:46Z</dcterms:created>
  <dc:creator>Charbel Azar</dc:creator>
  <dc:description/>
  <dc:language>en-US</dc:language>
  <cp:lastModifiedBy>ف</cp:lastModifiedBy>
  <dcterms:modified xsi:type="dcterms:W3CDTF">2006-04-09T17:59:15Z</dcterms:modified>
  <cp:revision>5</cp:revision>
  <dc:subject/>
  <dc:title>Slide 1</dc:title>
</cp:coreProperties>
</file>